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267-355C-4930-933B-21CC11BA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76B-1D87-41A9-9954-6241447B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455-07C3-4159-AE85-D4AA2499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BEF-C522-49AA-9B66-106FC50F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39E4-B594-4341-84EC-7B8CB5AD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407-F300-42E9-904D-B0FBA0AD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13F-BDD3-469F-935E-FACB0A8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6191-F90D-4B9D-844A-E48D02E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8FEA-3582-4248-84BC-167BC1E5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BD3-1F77-42E4-B692-1C043CB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20C-6662-4E56-B0A6-728CAD8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B14-0700-4AFE-BC04-DB3BF8F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575-E826-4053-9BED-155DAA7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A8E-671E-4A8A-A84C-20C9D9A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E44-C3A7-4D1C-B06A-172698C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B10-5419-42EA-AD4C-F911C507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FAC2-CEB3-43E3-97FA-13B6592E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7AC3-44E2-4B1E-A5F1-77AFABE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158A-1646-4164-B998-D0AE9A81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56C3-4957-477E-A221-ED68B4B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C4F1-61E8-41CA-94ED-C5C372E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F33F-E983-40BA-8AE8-16A6258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45A-E608-4F1B-90BE-6FDFC57A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54FE-E6D3-41AF-846E-AB0D6B5B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9E05-5618-4329-A262-33AB9FC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44D9-4063-4681-9A68-20EA6FA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BB74-71BB-4BE5-903E-6AE2BA5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43AC-DB51-45EC-9EE5-FD845FB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4C50-FFB0-455E-8401-29239833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FDA8-F60C-4670-835A-41146010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C785-D6DB-4B3A-B369-BBFFA17E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27AC-07E9-4AB7-943E-010777B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9AB8-3EC0-4B57-9B4A-EC7071E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0F3-7875-4E1F-9343-57EBC5A8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0CCB-ADCE-497C-A0C6-E3751547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B60C-C594-4315-894F-AC032FC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5C01-2A87-44A4-8051-5A17006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1114-DC87-4E8B-A734-2CBD1CD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35AA-3CA7-4E86-8CE6-3B27614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C070-19AE-4D65-BA0C-04511420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0B44-0CDC-49B0-8E5E-C1C450D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88C9-08B4-46D0-AAFB-E45BBF42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E217-63E5-4A41-8D5C-2D890E9D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061-4285-470F-8BFC-6B3375D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3B8-17CA-472B-84EF-56ADB7E6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D3B-67D1-4D41-854A-DA15F501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1E0-317E-475E-953F-E482625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9B1-76B0-4E57-8A71-E3ABAE2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2278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b57d3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d665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2278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927E5-44D8-4977-A16C-790414E6D5C3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2278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6A9DE-889F-494A-A27D-B2718CB4987E}" type="slidenum">
              <a:rPr b="0" lang="ru-RU" sz="900" spc="-1" strike="noStrike">
                <a:solidFill>
                  <a:srgbClr val="92278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2278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b57d3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d665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2278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51081-D66B-421F-8B98-7CAF6C0561B5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2278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A9686-8246-4924-A210-3F6586F52604}" type="slidenum">
              <a:rPr b="0" lang="ru-RU" sz="900" spc="-1" strike="noStrike">
                <a:solidFill>
                  <a:srgbClr val="92278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2278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b57d3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d665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2278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DED42-FCC1-4C12-A1FE-6FCE8D59EF2F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2278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7097-DCB3-46D9-AC09-B89877500CCE}" type="slidenum">
              <a:rPr b="0" lang="ru-RU" sz="900" spc="-1" strike="noStrike">
                <a:solidFill>
                  <a:srgbClr val="92278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2278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b57d3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d665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2278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A1426-3C28-48C4-92BE-0C7D1368403E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2278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937CA-2630-4F01-A00D-E87FD8ECCEC1}" type="slidenum">
              <a:rPr b="0" lang="ru-RU" sz="900" spc="-1" strike="noStrike">
                <a:solidFill>
                  <a:srgbClr val="92278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45760" y="1419120"/>
            <a:ext cx="10037880" cy="4523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Эффективная защита социально – трудовых прав – необходимое условие выполнения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«Концепции развития </a:t>
            </a: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ого образования детей»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13 апреля 2016 год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г. Владими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15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92278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45760" y="1418760"/>
            <a:ext cx="10037880" cy="4008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заработная плата за 2015 год составила  немногим  более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 000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блей и достигла показател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3%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уровня зарплаты учителей общеобразовательных школ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51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6D5B0-33A0-43B8-B602-C794230B317D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03280" y="3206880"/>
          <a:ext cx="8702640" cy="3657600"/>
        </p:xfrm>
        <a:graphic>
          <a:graphicData uri="http://schemas.openxmlformats.org/drawingml/2006/table">
            <a:tbl>
              <a:tblPr/>
              <a:tblGrid>
                <a:gridCol w="4351320"/>
                <a:gridCol w="43513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МАЯ ВЫСО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278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МАЯ 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278f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ДФО — 32 783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cd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ПФО — 17 670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cddb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СЗФО — 26 924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8e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ЮФО — 17 477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8ee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УФО — 26 350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cd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в СКФО — 14 243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cd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45760" y="1418760"/>
            <a:ext cx="10037880" cy="4008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-за низкой заработной платы и отсутствия жилья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80% работающих в школах преподавателей -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енсионного  или пенсионного возраста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B6F24-31FE-4242-8FCD-54457CFC9F93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45760" y="1418760"/>
            <a:ext cx="10037880" cy="4008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ется открытым вопрос сокращения субсидий на выполнение государственных и муниципальных заданий, необходимости пересмотра показателей, определяющих нормы для получения субсид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60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42DB5-206D-4391-B11E-391F4CF7C552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5760" y="1418760"/>
            <a:ext cx="1113948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ШИ имеют место финансовые нарушения трудовых прав преподавателей, такие как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равильный расчет ФОТ (не включаются вакансии, изменения МРОТа)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фонда стимулирующих выплат в установленном объеме (отсюда большая разница в оплате труда)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законное изъятие экономии средств из учреждения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документов, регламентирующих деятельность творческих коллективов при ДШИ (положения, договора)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нарушений, связанных с привлечением средств родителей (отсутствие положения об использовании средств, поступающих от родителей, вмешательство органов местного самоуправления в этот вопрос, отсутствие квитанций о приеме средств) и др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64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721C4-B1FF-4309-9E13-B12D8FFA9C77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45760" y="1418760"/>
            <a:ext cx="1113948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641 зданий, в которых располагаются школы искусств, требуют капитального ремонта,   64 -  признаны аварийными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апитальный ремонт в текущем учебном году  израсходовано 984 млн. рублей, в том числе  за счет собственных средств - 121 млн. рублей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E0FD6-76BD-405F-927F-83D056438B44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45760" y="1418760"/>
            <a:ext cx="1035540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ЕДОСТАТКИ И ПРОБЛЕМЫ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централизованного управления системой образования в области искусств из-за некорректного разграничения полномочий между органами федеральной, региональной власти и органами местного самоуправления. В результате - ДШИ в подавляющем большинстве субъектов РФ отнесены к компетенции муниципалитетов, что создает ряд проблем в обеспечении деятельности школ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72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36C5F-538B-403E-AB48-E09C4645B2AE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5760" y="1418760"/>
            <a:ext cx="1035540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ЕДОСТАТКИ И ПРОБЛЕМЫ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уют правовые основы взаимодействия ДШИ с общеобразовательными, культурно-досуговыми учреждениями клубного типа, учреждениями и организациями культуры, что значительно сужает возможности ДШИ в части поиска и выявления одаренных детей, реализации творческих мероприятий, популяризации творческого образования среди подрастающего поколе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76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D37CD-F2E1-41D9-AB78-6CE89EC0F66A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45760" y="1418760"/>
            <a:ext cx="1047420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ЕДОСТАТКИ И ПРОБЛЕМЫ</a:t>
            </a: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озданы условия для обучения и притока новых кадров в учреждения в связи с тем, что статус профессии в системе художественного образования ниже, чем статус педагогов общего образова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80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D2C01-4BA5-4E8D-BAB4-F02F4BE43540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46120" y="1418760"/>
            <a:ext cx="1061712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ЕДОСТАТКИ И ПРОБЛЕМЫ</a:t>
            </a: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итическое состояние технической оснащенности ДШИ — отсутствие парка музыкальных инструментов, оборудования, необходимого в образовательном процессе, учебников и учебных пособ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3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84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1CF91-C310-4966-9250-75A6F6778ABB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6920" y="2801520"/>
            <a:ext cx="7588440" cy="1793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88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BB9F-3708-45C8-A385-D89A861D3BF1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45760" y="1419120"/>
            <a:ext cx="10037880" cy="4523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в Российской Федерации функционируют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108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х школ искусств, что составляет около одной трети всех учреждений дополнительного образования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ДШИ (музыкальных, художественных, хореографических и др.)  сократилось    на 1,5%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 2014 году их было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186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союзным членством охвачено менее 50% сотрудников коллективов  ДШИ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19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9B24B-BD6B-4272-A306-E22E77220BDD}" type="slidenum">
              <a:rPr b="1" lang="ru-RU" sz="1800" spc="-1" strike="noStrike">
                <a:solidFill>
                  <a:srgbClr val="92278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5760" y="1419120"/>
            <a:ext cx="10037880" cy="4523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 счет присоединения Крыма и Севастополя</a:t>
            </a: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увеличилось число учащихся  на 2,5% и составляет 1 533 354 человек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увеличилась численность преподавателей до 10 9562 человек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Российской Федерации</a:t>
            </a: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в сельской местности трудится 21 00 преподавателей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численность концертмейстеров в ДШИ – 10 388 человек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       </a:t>
            </a: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- из них в сельской местности – более 1 500 человек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руководителей ДШИ – 11 987 человек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       </a:t>
            </a:r>
            <a:r>
              <a:rPr b="0" lang="ru-RU" sz="2500" spc="-1" strike="noStrike">
                <a:solidFill>
                  <a:srgbClr val="002060"/>
                </a:solidFill>
                <a:latin typeface="Trebuchet MS"/>
              </a:rPr>
              <a:t>- из них в сельской местности – 2 896 человек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23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6E2A8-4D55-4ED0-842B-B754E3E4EBAE}" type="slidenum"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45760" y="1419120"/>
            <a:ext cx="10037880" cy="4523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культуры России с участием  Профсоюза  целенаправленно решают задачу по повышению социального статуса педагогических работников ДШИ: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тены предложения об установлении единой нормы часов за ставку заработной платы (18 часов)  - Приказ Минобрнауки России от 22.12.2014г. №160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новлением Правительства РФ от 14.05.2015г. № 466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ежегодных основных удлиненных оплачиваемых отпусках» оставлены действующие нормы в части предоставления отпусков (56 календарных дней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1D732-FA16-4314-9CB6-0F9AF72D6446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79440" y="1417680"/>
            <a:ext cx="10204560" cy="473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культуры России с участием  Профсоюза  целенаправленно решают задачу по повышению социального статуса педагогических работников ДШИ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вержден новый порядок проведения аттестации педагогических работников организаций, осуществляющих педагогическую деятельность – Приказ Минобрнауки России от 07.04.2014г. №276, закрепляющий положение о том, что истечение срока действия высшей квалификационной категории не ограничивает право педагогического работника впоследствии обращаться в аттестационную комиссию с заявлением о проведении его аттестации в целях установления высшей квалификационной категории по той же должнос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зом Президента РФ от 0.06.2012г.№761 в части, предполагающей «доведение оплаты труда педагогов учреждений дополнительного образования детей, в том числе в системе учреждений культуры до уровня не ниже среднего для учителей в регионе», субъектам РФ поручено повысить заработную плату педагогическим работникам ДШ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31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00C39-A6A1-4752-8C3E-696C34724916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5760" y="1418760"/>
            <a:ext cx="10037880" cy="4622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начало 2015 учебного года на функционирование ДШИ  сферы культуры из всех источников финансирования было направле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5,9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лрд. рубл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ных средств – 60,3 млрд.рубле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плату труда - 46,9 млрд. рубле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апитальный ремонт и реставрацию - 657,9 млн. рублей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риобретение учебной и учебно-методической литературы - 26,3 млн. рублей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риобретение оборудования - 230,4 млн. рублей (0,35%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35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3FC54-B63F-4614-B733-8D539442B632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45760" y="1419120"/>
            <a:ext cx="10037880" cy="498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имость обучения одного учащегося в ДШ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всех источников финансирования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начало 2015 учебного год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еднем по России составил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3 000 рублей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39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51BD7-DCDA-484F-9A1F-1618536567D7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45760" y="1419120"/>
            <a:ext cx="10037880" cy="498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 Минобрнауки России от 22.12.2014г. № 1601 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ально был  введен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внесены  изменения в трудовые договоры с педагогическими работниками с учетом месячной ставки и объема педагогической нагрузки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шь с 1 сентября 2015 год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43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795CA-B56A-4E59-BD98-C55F9B48C826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5360" y="29376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d665d3"/>
                </a:solidFill>
                <a:latin typeface="Times New Roman"/>
                <a:ea typeface="Times New Roman"/>
              </a:rPr>
              <a:t>РОССИЙСКИЙ ПРОФСОЮЗ РАБОТНИКОВ КУЛЬТУРЫ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45760" y="1418760"/>
            <a:ext cx="10037880" cy="4008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 время  в Р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спублике Калмыкия - перерасчет произведен только в одном районе - Городовиковском, в остальных 16 ДШИ перерасчет  не производился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4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0783-5762-4F13-8A28-377ADFE051DA}" type="slidenum"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08:18:01Z</dcterms:created>
  <dc:creator>Василий Быковский</dc:creator>
  <dc:description/>
  <dc:language>en-US</dc:language>
  <cp:lastModifiedBy>ОЛЬГА</cp:lastModifiedBy>
  <dcterms:modified xsi:type="dcterms:W3CDTF">2016-04-27T07:14:08Z</dcterms:modified>
  <cp:revision>26</cp:revision>
  <dc:subject/>
  <dc:title>«Эффективная защита социально – трудовых прав – необходимое условие выполнения «Концепции развития дополнительного образования детей»</dc:title>
</cp:coreProperties>
</file>